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8.wmf" ContentType="image/x-wmf"/>
  <Override PartName="/ppt/media/image13.png" ContentType="image/png"/>
  <Override PartName="/ppt/media/image12.jpeg" ContentType="image/jpeg"/>
  <Override PartName="/ppt/media/image7.wmf" ContentType="image/x-wmf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5.jpeg" ContentType="image/jpeg"/>
  <Override PartName="/ppt/media/image6.png" ContentType="image/png"/>
  <Override PartName="/ppt/media/image11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BF208-89F1-4813-9403-CED4986C5A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AB91E-93A8-469C-9838-BFD94F5819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A467C-7AE6-4551-97C0-ECC285CFD0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3709E-B059-43F3-8406-32DB177246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3CBE8-F906-490E-8715-8491B810BC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CB626-BFF3-46C6-94DA-64721BA044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901B7-4088-4AA5-B71B-8D7810BECD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6E681-1FFA-49DE-B775-C140B091A6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CB5AD-AE2A-4E92-8D5E-16DF87845F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51310-0DFA-436B-90DB-68A5477D12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C085C-0829-4B38-B6E1-FA4F9F474F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FF003-1EBF-4A6F-B87B-D3252DEC84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ADFD8-977A-4018-99B4-7084799A54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D7A30-78D3-4992-9700-32EF766F03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AA063-63CB-47AC-808B-774AB0BDA5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EE4B2A-99B4-47D3-AF86-4CFB84C743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4439D1-56E5-4A7D-9825-007278EA2B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231987-BB61-495E-9848-BB9AA4723F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010853-A905-4A3C-9E39-899DE8E823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BCB10-37CD-4700-B587-B06F8314828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C3764-B970-403A-985C-43266E358E0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CDB88-0C89-4132-9668-2E1C4DD486A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8E999-CD06-455D-95BC-9053E8462E3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BC956-5879-4D3D-986F-74915525D9D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53352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8C896-F2B8-498F-AF11-0A42EF77EBA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FD42D-0328-4A83-8320-8A6F8730FFC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BA4C77-4FCD-403E-9258-F480D8015A2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82DDB-0F8E-4BF1-A7E1-2D90CC8F2A6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374D1-ADEF-4C95-B750-E797B5FFFFB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B31E4-B1D2-4250-9EAA-7195FDCEEF8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E6A24-037A-465C-94CE-515A310D771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D99C5-4C93-4ADF-8F57-C6860CA6D45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385937-F736-41B6-8279-E504A20F20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F0EC07-C7D9-4E6C-9EC5-CEB92A3279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425EBB-7A88-46F2-BE82-EA521ACE2F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3352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92B19B-BF70-44F9-AFEA-00BB924806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3623AC-8007-45B7-8E5A-61FF453BA1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E3BED5-1421-4DA1-93D8-A574EF33E0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2701AE-00B2-4D37-8CC4-BD8979413E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98F41-8ACC-445C-9114-6CE6F201408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4B83B-D281-4454-8351-91BF77A8809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600" spc="-1" strike="noStrike">
                <a:solidFill>
                  <a:srgbClr val="ffffff"/>
                </a:solidFill>
                <a:latin typeface="Verdana"/>
              </a:rPr>
              <a:t>Quality Control of Antimicrobial Susceptibility Tests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F9BB6-812F-497B-A7EB-5C4E8167163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lection of a Colony to Tes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D2E86-1101-49C4-A552-2F7A63CC8F54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Object 2"/>
          <p:cNvGraphicFramePr/>
          <p:nvPr/>
        </p:nvGraphicFramePr>
        <p:xfrm>
          <a:off x="1220760" y="1752480"/>
          <a:ext cx="670248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0760" y="1752480"/>
                    <a:ext cx="670248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DA1AED-4A40-4458-9BF6-9EB02426973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cFarland 0.5 and </a:t>
            </a: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djusted Test Organis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A2957-554C-44A1-9A95-317870CEF441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Object 2"/>
          <p:cNvGraphicFramePr/>
          <p:nvPr/>
        </p:nvGraphicFramePr>
        <p:xfrm>
          <a:off x="1220760" y="1752480"/>
          <a:ext cx="670248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0760" y="1752480"/>
                    <a:ext cx="670248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291919-D749-4C43-85BC-A003286D467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C518C-C674-4484-8AA5-E94F6C2A8CF0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Use of Disk Dispenser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648320" cy="44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practical, rapi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crease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Arial Unicode MS"/>
              </a:rPr>
              <a:t>reproducibil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Risks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contamin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reduces personal judgment skil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5" name="Picture 4" descr="distributeur"/>
          <p:cNvPicPr/>
          <p:nvPr/>
        </p:nvPicPr>
        <p:blipFill>
          <a:blip r:embed="rId1"/>
          <a:stretch/>
        </p:blipFill>
        <p:spPr>
          <a:xfrm>
            <a:off x="5105520" y="2057400"/>
            <a:ext cx="3886200" cy="3265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EDF075-EA1E-4AE4-998C-8F41705E711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EBA04-171B-44C9-AE65-CAD2B49CA84B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Disk Susceptibility Testing Problem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58" name="Picture 12" descr="Too Heavy"/>
          <p:cNvPicPr/>
          <p:nvPr/>
        </p:nvPicPr>
        <p:blipFill>
          <a:blip r:embed="rId1"/>
          <a:stretch/>
        </p:blipFill>
        <p:spPr>
          <a:xfrm>
            <a:off x="304920" y="1447920"/>
            <a:ext cx="8381880" cy="4495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73EED7-3A54-4EF7-9AAE-B7ACFB65825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Disk Susceptibility Testing Problem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60" name="Picture 5" descr="Disk moved"/>
          <p:cNvPicPr/>
          <p:nvPr/>
        </p:nvPicPr>
        <p:blipFill>
          <a:blip r:embed="rId1"/>
          <a:stretch/>
        </p:blipFill>
        <p:spPr>
          <a:xfrm>
            <a:off x="533520" y="1447920"/>
            <a:ext cx="7734240" cy="498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4B6512-3D82-41B6-A20A-E13713EF0DA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E27FF-8E3F-47C3-A2D7-1970ACA9128B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2" descr="pied_coulisse-calliper"/>
          <p:cNvPicPr/>
          <p:nvPr/>
        </p:nvPicPr>
        <p:blipFill>
          <a:blip r:embed="rId1"/>
          <a:stretch/>
        </p:blipFill>
        <p:spPr>
          <a:xfrm>
            <a:off x="457200" y="1371600"/>
            <a:ext cx="3276720" cy="259704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Measuring Condi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64" name="Picture 7" descr="Antibiot"/>
          <p:cNvPicPr/>
          <p:nvPr/>
        </p:nvPicPr>
        <p:blipFill>
          <a:blip r:embed="rId2"/>
          <a:stretch/>
        </p:blipFill>
        <p:spPr>
          <a:xfrm>
            <a:off x="5791320" y="1219320"/>
            <a:ext cx="1973160" cy="266688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8"/>
          <p:cNvSpPr/>
          <p:nvPr/>
        </p:nvSpPr>
        <p:spPr>
          <a:xfrm>
            <a:off x="6577560" y="403848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u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9"/>
          <p:cNvSpPr/>
          <p:nvPr/>
        </p:nvSpPr>
        <p:spPr>
          <a:xfrm>
            <a:off x="2094120" y="4114800"/>
            <a:ext cx="13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lip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10"/>
          <p:cNvSpPr/>
          <p:nvPr/>
        </p:nvSpPr>
        <p:spPr>
          <a:xfrm>
            <a:off x="304920" y="4572000"/>
            <a:ext cx="8458200" cy="175248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read with good light, and from the back of the p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zone size reading is drug specifi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agnification may hel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illimeters mat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8" name="Object 9"/>
          <p:cNvGraphicFramePr/>
          <p:nvPr/>
        </p:nvGraphicFramePr>
        <p:xfrm>
          <a:off x="2438280" y="1905120"/>
          <a:ext cx="3117960" cy="2104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38280" y="1905120"/>
                    <a:ext cx="3117960" cy="21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748B40-14A3-4F98-A33B-AF9A09B8B46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test – antimicrobial gradient method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FA53B-B0F6-4CE9-9B65-2EF616ADE65F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2" descr="CO04-2351 Etest blood cult isolate 2"/>
          <p:cNvPicPr/>
          <p:nvPr/>
        </p:nvPicPr>
        <p:blipFill>
          <a:blip r:embed="rId1"/>
          <a:stretch/>
        </p:blipFill>
        <p:spPr>
          <a:xfrm>
            <a:off x="1554120" y="1752480"/>
            <a:ext cx="603576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6E5436-9B3D-4772-9A2D-BD151245E28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atient results may be incorrect if: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organism was misidentifi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clerical error was mad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appropriate choice of antimicrobials were tested and report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wrong patient’s sample was examin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wrong test was order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sample was not preserved proper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73E6EC-BA2D-4941-AEC1-6B2B89CA2B2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39FD3-6E04-4DD8-9DDD-5102A6B9965A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ntimicrobial Susceptibility Tes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14" name="Picture 4" descr="k_b"/>
          <p:cNvPicPr/>
          <p:nvPr/>
        </p:nvPicPr>
        <p:blipFill>
          <a:blip r:embed="rId1"/>
          <a:stretch/>
        </p:blipFill>
        <p:spPr>
          <a:xfrm>
            <a:off x="457200" y="1600200"/>
            <a:ext cx="1714680" cy="16686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Staphylococcus_aureus_Etest2"/>
          <p:cNvPicPr/>
          <p:nvPr/>
        </p:nvPicPr>
        <p:blipFill>
          <a:blip r:embed="rId2"/>
          <a:stretch/>
        </p:blipFill>
        <p:spPr>
          <a:xfrm>
            <a:off x="2362320" y="1600200"/>
            <a:ext cx="1676160" cy="16765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8" descr="micmlc2"/>
          <p:cNvPicPr/>
          <p:nvPr/>
        </p:nvPicPr>
        <p:blipFill>
          <a:blip r:embed="rId3"/>
          <a:stretch/>
        </p:blipFill>
        <p:spPr>
          <a:xfrm>
            <a:off x="4114800" y="1600200"/>
            <a:ext cx="2209680" cy="17496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0" descr="vitek-2"/>
          <p:cNvPicPr/>
          <p:nvPr/>
        </p:nvPicPr>
        <p:blipFill>
          <a:blip r:embed="rId4"/>
          <a:stretch/>
        </p:blipFill>
        <p:spPr>
          <a:xfrm>
            <a:off x="6400800" y="1600200"/>
            <a:ext cx="2362320" cy="177012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11"/>
          <p:cNvSpPr/>
          <p:nvPr/>
        </p:nvSpPr>
        <p:spPr>
          <a:xfrm>
            <a:off x="871920" y="4114800"/>
            <a:ext cx="6976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vide information for selection of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 appropriate agent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timicrobial thera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559BF3-7A7F-4ACC-BB60-FBBC22B22E9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ST Methods Interpret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gar disk diffusion method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provides qualitative interpretive category results of susceptible, intermediate, and resista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icrodilution and agar gradient diffusion methods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provide a quantitative result, a minimum inhibitory concentration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D3446B-2A4C-4590-9E7A-79875088EBE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PBL Susceptibility testing 2008"/>
          <p:cNvPicPr/>
          <p:nvPr/>
        </p:nvPicPr>
        <p:blipFill>
          <a:blip r:embed="rId1"/>
          <a:srcRect l="4364" t="8470" r="5455" b="8470"/>
          <a:stretch/>
        </p:blipFill>
        <p:spPr>
          <a:xfrm>
            <a:off x="685800" y="1143000"/>
            <a:ext cx="7558200" cy="522756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762120" y="457200"/>
            <a:ext cx="61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ST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779D50-9AF2-400C-BC4A-1A55B1A5476F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lide Number Placeholder 1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51810-B1CD-46F4-BF74-CCF36184AE8E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457200" y="2819520"/>
            <a:ext cx="2708280" cy="350496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125" name="Text Box 3"/>
          <p:cNvSpPr/>
          <p:nvPr/>
        </p:nvSpPr>
        <p:spPr>
          <a:xfrm>
            <a:off x="304920" y="1295280"/>
            <a:ext cx="8076960" cy="13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nical and Laboratory Standards  Instit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rench Society of Microbi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ritish Society for Antimicrobial Chemothera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7" descr=""/>
          <p:cNvPicPr/>
          <p:nvPr/>
        </p:nvPicPr>
        <p:blipFill>
          <a:blip r:embed="rId2"/>
          <a:stretch/>
        </p:blipFill>
        <p:spPr>
          <a:xfrm>
            <a:off x="6172200" y="2819520"/>
            <a:ext cx="2503440" cy="3504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aphicFrame>
        <p:nvGraphicFramePr>
          <p:cNvPr id="127" name="Object 6"/>
          <p:cNvGraphicFramePr/>
          <p:nvPr/>
        </p:nvGraphicFramePr>
        <p:xfrm>
          <a:off x="3429000" y="2819520"/>
          <a:ext cx="2639880" cy="3504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8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819520"/>
                    <a:ext cx="2639880" cy="3504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29" name=""/>
          <p:cNvSpPr/>
          <p:nvPr/>
        </p:nvSpPr>
        <p:spPr>
          <a:xfrm>
            <a:off x="685800" y="457200"/>
            <a:ext cx="36576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99687A-EC5A-48AD-9BB0-98D002E2667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Example from an excerpt from Reference:</a:t>
            </a:r>
            <a:br>
              <a:rPr sz="28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lection of Drug to Tes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E8BC2-D428-4F4E-A952-35B5F82071C3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" name="Object 2"/>
          <p:cNvGraphicFramePr/>
          <p:nvPr/>
        </p:nvGraphicFramePr>
        <p:xfrm>
          <a:off x="380880" y="1981080"/>
          <a:ext cx="8272440" cy="377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981080"/>
                    <a:ext cx="8272440" cy="377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8DAD4C-33A5-4C7B-9A5E-CED6A681742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A0E23-6B3E-46AB-BCFB-5E0F1FF45CE5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ere errors can occur in susceptibility tes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edia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antimicrobial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oculum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cub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equipment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terpret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317C4B-8014-42DE-BED8-A4020A11EE8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784FD-37B8-4763-A970-8203ECA9BE54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gar disk diffusion method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8458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ediu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 Mueller Hinto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4 mm thicknes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pH 7.2 to 7.4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tibiotic          storage    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20</a:t>
            </a:r>
            <a:r>
              <a:rPr b="0" lang="en-US" sz="2400" spc="-1" strike="noStrike" baseline="40000">
                <a:solidFill>
                  <a:srgbClr val="000000"/>
                </a:solidFill>
                <a:latin typeface="Verdan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 minimu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ks                temperatu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oculu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cFarland 0.5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(10</a:t>
            </a:r>
            <a:r>
              <a:rPr b="0" lang="en-GB" sz="2400" spc="-1" strike="noStrike" baseline="30000">
                <a:solidFill>
                  <a:srgbClr val="000000"/>
                </a:solidFill>
                <a:latin typeface="Verdana"/>
              </a:rPr>
              <a:t>8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bacteria/mL)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Incubator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        temperature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35</a:t>
            </a:r>
            <a:r>
              <a:rPr b="0" lang="en-GB" sz="2400" spc="-1" strike="noStrike" baseline="30000">
                <a:solidFill>
                  <a:srgbClr val="000000"/>
                </a:solidFill>
                <a:latin typeface="Verdana"/>
              </a:rPr>
              <a:t>o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tmosphere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mbient ai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4CDD67-09F5-48DD-A2C9-8FF4BAB9A55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6DF14-9E4D-4297-AB4C-D3D45E1B680B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Reference Strai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Verdana"/>
              </a:rPr>
              <a:t>E. coli 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ATCC 25922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Verdana"/>
              </a:rPr>
              <a:t>S. aureus 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ATCC 25923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Verdana"/>
              </a:rPr>
              <a:t>P. aeruginosa 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ATCC 27853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"/>
          <p:cNvSpPr/>
          <p:nvPr/>
        </p:nvSpPr>
        <p:spPr>
          <a:xfrm>
            <a:off x="685800" y="3886200"/>
            <a:ext cx="807732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C organisms must be obtained from reputable source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specific QC organisms to test different groups of “drug-bug” combin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026B35-21C9-4EBD-BFC5-267D65F9073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8T06:56:40Z</dcterms:created>
  <dc:creator>Robin Barteluk</dc:creator>
  <dc:description/>
  <dc:language>en-US</dc:language>
  <cp:lastModifiedBy>Robin Barteluk</cp:lastModifiedBy>
  <dcterms:modified xsi:type="dcterms:W3CDTF">2008-12-02T03:54:50Z</dcterms:modified>
  <cp:revision>7</cp:revision>
  <dc:subject/>
  <dc:title>Microbiology QC</dc:title>
</cp:coreProperties>
</file>